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3D1A-C3AD-4759-9CB8-4FF5B78AA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4F29-598A-4B5B-B7D9-0B012CB8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64CE-B398-4B9D-857E-F95E983DC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7574-B679-4928-A03B-AAA77F293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16C7-943B-4648-8B66-999FA98D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4219-075A-452F-9486-6D8863DD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0B23-3FCC-4735-B240-8988D29E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FC8E-FA88-416E-A04B-A6264338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DFE8-30C9-4FBD-A94B-10F91C46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E6CE-C6C9-4510-A39E-C5708C33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6C72-3987-4C84-976E-B04E6B0F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5C80-16E5-46E7-BBFF-41A258A5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2B6E-5519-4F84-BE3C-23679DC51E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75080" cy="388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971280" y="4437000"/>
            <a:ext cx="561636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e701"/>
                </a:solidFill>
                <a:latin typeface="Times New Roman"/>
              </a:rPr>
              <a:t>Ржаной хле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e701"/>
                </a:solidFill>
                <a:latin typeface="Times New Roman"/>
              </a:rPr>
              <a:t>Вот тебе ломоть ржаной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e701"/>
                </a:solidFill>
                <a:latin typeface="Times New Roman"/>
              </a:rPr>
              <a:t>Он душистый, он живо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e701"/>
                </a:solidFill>
                <a:latin typeface="Times New Roman"/>
              </a:rPr>
              <a:t>Вкусен он с лучком зелены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e701"/>
                </a:solidFill>
                <a:latin typeface="Times New Roman"/>
              </a:rPr>
              <a:t>И с огурчиком солены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i="1" lang="en-US" sz="1600" spc="-1" strike="noStrike">
                <a:solidFill>
                  <a:srgbClr val="ffe701"/>
                </a:solidFill>
                <a:latin typeface="Times New Roman"/>
              </a:rPr>
              <a:t>Хлебушек ржаной питает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e701"/>
                </a:solidFill>
                <a:latin typeface="Times New Roman"/>
              </a:rPr>
              <a:t>   </a:t>
            </a:r>
            <a:r>
              <a:rPr b="1" i="1" lang="en-US" sz="1600" spc="-1" strike="noStrike">
                <a:solidFill>
                  <a:srgbClr val="ffe701"/>
                </a:solidFill>
                <a:latin typeface="Times New Roman"/>
              </a:rPr>
              <a:t>Нас от голода спасает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e701"/>
                </a:solidFill>
                <a:latin typeface="Times New Roman"/>
              </a:rPr>
              <a:t>Силу крепость придает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e701"/>
                </a:solidFill>
                <a:latin typeface="Times New Roman"/>
              </a:rPr>
              <a:t>Любит хлебушек народ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059280" y="404640"/>
            <a:ext cx="4968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 Ржаной колосок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348000" y="1773360"/>
            <a:ext cx="3794040" cy="2528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948360" y="4292640"/>
            <a:ext cx="176400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4286160" cy="3210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547640" y="620640"/>
            <a:ext cx="6048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 Пшеничный  колосок"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5003640" y="1628640"/>
            <a:ext cx="3727440" cy="2791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4427640" y="4653000"/>
            <a:ext cx="2484360" cy="1863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50920" y="3933360"/>
            <a:ext cx="403848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аждому знако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удрые слов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Хлеб хозяин дом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сему он гол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2:39:36Z</dcterms:created>
  <dc:creator>User</dc:creator>
  <dc:description/>
  <dc:language>en-US</dc:language>
  <cp:lastModifiedBy>User</cp:lastModifiedBy>
  <dcterms:modified xsi:type="dcterms:W3CDTF">2008-02-23T12:57:21Z</dcterms:modified>
  <cp:revision>2</cp:revision>
  <dc:subject/>
  <dc:title>Слайд 1</dc:title>
</cp:coreProperties>
</file>